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A310-FF11-4519-B3A8-18D4254FC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543F-E9B2-4017-9746-62979ADD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2104-97A4-4694-AF4E-62CA7189C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5F6B-B7CE-4BB7-9B2A-AFEB0BEE0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E909-D957-4B3C-971B-5AF3253C1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B474-6AD3-40EC-8B28-9B1B8B77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4957-EDE8-41FB-8DFA-3D98383F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CDA8-ED17-47F6-820B-1CE006E7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42C6-5A7B-4614-9C86-602F3450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EDF1-BF41-4762-9A8B-E1633F65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52B0-242C-41CF-853B-9297DC2C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873F-4768-4FE3-84AA-8FD067DC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9D4C-EE36-4BAC-9650-15674FD0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F73B-CD49-423E-A50A-322B541A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023D-A246-42DF-AC30-3AA8DA6C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B6C5-E5D7-4332-9DE1-711AD1C2F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542A-AF7F-4461-BB45-E3A975C93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AB30-F6EE-4115-8B39-A66D6ADA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996D-AF46-445F-B649-C9BC7FA4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C866-C0EE-4DA6-B4D4-D0F45AC8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E04F-CDE1-41EE-9A0F-5CEC83EF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702F-C593-4FE1-8C1C-7B7A6C4E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9883-5B92-4154-A535-B36B488E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3118-4932-4CDF-8C42-B067EDE8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7A33-2240-402F-98A1-1C2E4CE5F9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EF64-5484-44BF-BB80-E537617B44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NCI_Visuals_Food_Taco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en.wikipedia.org/wiki/Image:Pizza_1_bg_032204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en.wikipedia.org/wiki/Image:Cut-up_quesadilla.jpg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Merida_Roman_Theatre1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en.wikipedia.org/wiki/Image:Iraq_header_2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Jose Gonzalez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About 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 m Good At…”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m good at soc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m good at video ga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m good at 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62520" y="46483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04920" y="4651200"/>
            <a:ext cx="3657600" cy="2206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172200" y="4648320"/>
            <a:ext cx="243828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“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My favorite websites include…”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ahoo- e-m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ltv.com- for anybody who likes soc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ingart.com- I like to see nice drawing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y Favorite Food”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z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c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adill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Hard-shell taco made with a prefabricated shell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4724280"/>
            <a:ext cx="2895480" cy="1930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Home-made pepperoni pizz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52680" y="472428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A quesadilla, cut into wedges.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3600" y="4724280"/>
            <a:ext cx="2867040" cy="1914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My Favorite Teachers are…..”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one that does not give home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f I could I would….”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p the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 a trip to S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Roman Theatre of Mérida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4648320"/>
            <a:ext cx="4191120" cy="1927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1905120"/>
            <a:ext cx="380988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 10 years I….”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pe I could owned my own busine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y Favorite artists/athletes are…..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The En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is all about 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6:03:28Z</dcterms:created>
  <dc:creator>004student</dc:creator>
  <dc:description/>
  <dc:language>en-US</dc:language>
  <cp:lastModifiedBy>004student</cp:lastModifiedBy>
  <dcterms:modified xsi:type="dcterms:W3CDTF">2008-10-23T15:39:20Z</dcterms:modified>
  <cp:revision>5</cp:revision>
  <dc:subject/>
  <dc:title>Jose Gonzalez</dc:title>
</cp:coreProperties>
</file>